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EBF2-4086-4222-B236-762B97E3D11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7640" y="744480"/>
            <a:ext cx="4962600" cy="3722760"/>
          </a:xfrm>
          <a:prstGeom prst="rect">
            <a:avLst/>
          </a:prstGeom>
          <a:ln w="0">
            <a:noFill/>
          </a:ln>
        </p:spPr>
      </p:sp>
      <p:sp>
        <p:nvSpPr>
          <p:cNvPr id="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DEEA-451B-4448-9735-C55DC427089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rinkly old pussy. Fuck your mum</a:t>
            </a:r>
            <a:endParaRPr b="0" lang="en-US" sz="1200" spc="-1" strike="noStrike">
              <a:solidFill>
                <a:srgbClr val="000000"/>
              </a:solidFill>
              <a:latin typeface="Calibri"/>
            </a:endParaRPr>
          </a:p>
        </p:txBody>
      </p:sp>
      <p:sp>
        <p:nvSpPr>
          <p:cNvPr id="1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F375-45E8-4E3C-968D-195BFABF8C1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7640" y="744480"/>
            <a:ext cx="49626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B Principal phoning a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er. Crying</a:t>
            </a:r>
            <a:endParaRPr b="0" lang="en-US" sz="1200" spc="-1" strike="noStrike">
              <a:solidFill>
                <a:srgbClr val="000000"/>
              </a:solidFill>
              <a:latin typeface="Calibri"/>
            </a:endParaRPr>
          </a:p>
        </p:txBody>
      </p:sp>
      <p:sp>
        <p:nvSpPr>
          <p:cNvPr id="1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EB2A-6DD7-4789-B202-86019B98AEA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KH moving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ibble</a:t>
            </a:r>
            <a:endParaRPr b="0" lang="en-US" sz="1200" spc="-1" strike="noStrike">
              <a:solidFill>
                <a:srgbClr val="000000"/>
              </a:solidFill>
              <a:latin typeface="Calibri"/>
            </a:endParaRPr>
          </a:p>
        </p:txBody>
      </p:sp>
      <p:sp>
        <p:nvSpPr>
          <p:cNvPr id="1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2391-822D-4674-B1DA-79367224A47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17640" y="744480"/>
            <a:ext cx="4962600" cy="3722760"/>
          </a:xfrm>
          <a:prstGeom prst="rect">
            <a:avLst/>
          </a:prstGeom>
          <a:ln w="0">
            <a:noFill/>
          </a:ln>
        </p:spPr>
      </p:sp>
      <p:sp>
        <p:nvSpPr>
          <p:cNvPr id="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 work with the small percentage of children at the end of the behaviour scale, so you may or may not encounter these extreme behaviours. The behaviours didn’t start at this extreme level. It may have begun with something as simple as not doing what they were told! If the child hasn’t learnt appropriate ways to behave then the negative behaviours can snowbal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E8A6-2C4A-478F-AB2E-81CA1C93702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y are the children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4B4A-0EB2-4F46-AC27-1E937306F5F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17640" y="744480"/>
            <a:ext cx="4962600" cy="3722760"/>
          </a:xfrm>
          <a:prstGeom prst="rect">
            <a:avLst/>
          </a:prstGeom>
          <a:ln w="0">
            <a:noFill/>
          </a:ln>
        </p:spPr>
      </p:sp>
      <p:sp>
        <p:nvSpPr>
          <p:cNvPr id="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y are the children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me issues, school issues, neglect, deprivation, other things on their mind, lack of boundaries, inconsistencies, lack of routines, lack of nurturing, medical conditions (Foetal Alcohol Effect/Syndrome, ADHD, Aspergers Syndrome,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8F6D-61D9-4CB2-9523-8DC2B6B5F8D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urning 2 houses, 24hr minder, never to have unsupervised contact with other children </a:t>
            </a:r>
            <a:endParaRPr b="0" lang="en-US" sz="1200" spc="-1" strike="noStrike">
              <a:solidFill>
                <a:srgbClr val="000000"/>
              </a:solidFill>
              <a:latin typeface="Calibri"/>
            </a:endParaRPr>
          </a:p>
        </p:txBody>
      </p:sp>
      <p:sp>
        <p:nvSpPr>
          <p:cNvPr id="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463D-BA07-4371-A99D-A54903FFCF6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17640" y="744480"/>
            <a:ext cx="4962600" cy="3722760"/>
          </a:xfrm>
          <a:prstGeom prst="rect">
            <a:avLst/>
          </a:prstGeom>
          <a:ln w="0">
            <a:noFill/>
          </a:ln>
        </p:spPr>
      </p:sp>
      <p:sp>
        <p:nvSpPr>
          <p:cNvPr id="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elonging- fractured families, unfriendly schools, rejection from peers can cause a sense of alienation. Children alienated from positive adults and peers are emotionally and morally adrift</a:t>
            </a:r>
            <a:endParaRPr b="0" lang="en-US" sz="1200" spc="-1" strike="noStrike">
              <a:solidFill>
                <a:srgbClr val="000000"/>
              </a:solidFill>
              <a:latin typeface="Calibri"/>
            </a:endParaRPr>
          </a:p>
        </p:txBody>
      </p:sp>
      <p:sp>
        <p:nvSpPr>
          <p:cNvPr id="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5480-BF7E-45C4-A6A5-566A8989AA5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CCF6E-ADE2-4097-9780-5BBF85EB6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92AD8-9D21-4274-9509-9A4D93A24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A7217-C3EB-47E0-8C97-3FC63937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01968-DC2C-42CF-B56B-1FC0C2178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48EC-30C3-4CE6-ABB9-FB5F48CC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E515A-1A79-4EB0-8841-BCB9D57C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5DBD-4C48-47FF-B084-01E8A019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290A-62AA-4F6E-A689-1D445A83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EC5C-056D-4651-BD89-F37D02DC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5BB0-93B2-4BF1-A11C-AB9964584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0FF9-D59E-42E6-9AE6-F814EFA1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CD16-F822-4604-85E2-80E74E5F4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0689-D1C4-4604-B0E4-DB10ABE12F49}"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Calibri"/>
              </a:rPr>
              <a:t>Kids</a:t>
            </a:r>
            <a:r>
              <a:rPr b="0" lang="en-NZ" sz="4000" spc="-1" strike="noStrike">
                <a:solidFill>
                  <a:srgbClr val="000000"/>
                </a:solidFill>
                <a:latin typeface="Calibri"/>
              </a:rPr>
              <a:t> </a:t>
            </a:r>
            <a:r>
              <a:rPr b="0" lang="en-NZ" sz="7200" spc="-1" strike="noStrike">
                <a:solidFill>
                  <a:srgbClr val="000000"/>
                </a:solidFill>
                <a:latin typeface="Calibri"/>
              </a:rPr>
              <a:t>Stuff Up! </a:t>
            </a:r>
            <a:br>
              <a:rPr sz="4000"/>
            </a:br>
            <a:r>
              <a:rPr b="0" lang="en-NZ" sz="4000" spc="-1" strike="noStrike">
                <a:solidFill>
                  <a:srgbClr val="000000"/>
                </a:solidFill>
                <a:latin typeface="Calibri"/>
              </a:rPr>
              <a:t>Get Over It!</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98989"/>
                </a:solidFill>
                <a:latin typeface="Calibri"/>
              </a:rPr>
              <a:t>Kelvin Hil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98989"/>
                </a:solidFill>
                <a:latin typeface="Calibri"/>
              </a:rPr>
              <a:t>2009 Eastnet Cluster ICT Ex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Build self esteem</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f </a:t>
            </a:r>
            <a:r>
              <a:rPr b="1" lang="en-NZ" sz="4400" spc="-1" strike="noStrike">
                <a:solidFill>
                  <a:srgbClr val="000000"/>
                </a:solidFill>
                <a:latin typeface="Calibri"/>
              </a:rPr>
              <a:t>success</a:t>
            </a:r>
            <a:r>
              <a:rPr b="0" lang="en-NZ" sz="4400" spc="-1" strike="noStrike">
                <a:solidFill>
                  <a:srgbClr val="000000"/>
                </a:solidFill>
                <a:latin typeface="Calibri"/>
              </a:rPr>
              <a:t> builds </a:t>
            </a:r>
            <a:r>
              <a:rPr b="1" lang="en-NZ" sz="4400" spc="-1" strike="noStrike">
                <a:solidFill>
                  <a:srgbClr val="000000"/>
                </a:solidFill>
                <a:latin typeface="Calibri"/>
              </a:rPr>
              <a:t>success</a:t>
            </a: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what is </a:t>
            </a:r>
            <a:r>
              <a:rPr b="1" lang="en-NZ" sz="4400" spc="-1" strike="noStrike">
                <a:solidFill>
                  <a:srgbClr val="000000"/>
                </a:solidFill>
                <a:latin typeface="Calibri"/>
              </a:rPr>
              <a:t>failure</a:t>
            </a:r>
            <a:r>
              <a:rPr b="0" lang="en-NZ" sz="4400" spc="-1" strike="noStrike">
                <a:solidFill>
                  <a:srgbClr val="000000"/>
                </a:solidFill>
                <a:latin typeface="Calibri"/>
              </a:rPr>
              <a:t> going to bui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aking the crap...can be hard work</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se kids can wear you dow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laming yourself is not productive, especially if you didn’t cause the probl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s teachers we are there to help so our energy is better spent sorting out the issu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sk for and get help, from colleagues, Senco, RTLB, GSE, specialist teachers, the ne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he greater the challenge the more dramatic the results will b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Find something that helps you blow off ste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perts at Arguing</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ost of these kids are experts at giving teachers “stick” and winding them through the ro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void the argument cycle – don’t buy into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alking away from a situation is a choice you can make and it shows good decision making not weak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en man throw spear of insult at hea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ove head!</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pear miss target, leave man empty handed, spear in wall, not in you.</a:t>
            </a:r>
            <a:endParaRPr b="0" lang="en-US" sz="32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eorge Thompson, Verbal Judo (199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ick your battle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know when to walk away, and know when 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Be clever about what to ign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icking on every small thing can wear you both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aking a mountain out of a mole hill can backfire on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istraction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Making mistak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n school mistakes happen every day, and sometimes the kids even mak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elebrate mistak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ncourag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Learn from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ould you rather kids make big mistakes now or when they are an ad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 second chanc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Many of these kids have experienced a huge amount of failure and rejection, and they are expecting you to give up on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Giving them a second chance can show them you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How many second chances do you giv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s there an ans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Giving up on them</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 common solution is to expel/stand down/suspend the student – does this solve the probl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oesn’t this expose all of us to the negative conseque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If changes can’t be made then maybe a more suitable place needs to be found for th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very student has potential it just needs to be tapped and nurtu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ools I use</a:t>
            </a:r>
            <a:endParaRPr b="0" lang="en-US" sz="4400" spc="-1" strike="noStrike">
              <a:solidFill>
                <a:srgbClr val="000000"/>
              </a:solidFill>
              <a:latin typeface="Calibri"/>
            </a:endParaRPr>
          </a:p>
        </p:txBody>
      </p:sp>
      <p:sp>
        <p:nvSpPr>
          <p:cNvPr id="81" name=""/>
          <p:cNvSpPr txBox="1"/>
          <p:nvPr/>
        </p:nvSpPr>
        <p:spPr>
          <a:xfrm>
            <a:off x="428760" y="1214280"/>
            <a:ext cx="8229600" cy="521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disciplinehelp.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mart board – handwriting, vocabulary, spelling, ma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 many hands-on activities a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bannatynereadingprogram.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braingrade.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ww.crayonphysics.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Reading pen www.wizcomtech.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asi-speak mic  www.tts-shopping.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bout M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kelvinhi@waimokoia.school.n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Warn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at I say may not be f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here will be exceptions to every ru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Please disagree if you even get the slightest urge to – I have been known to make mistak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k questions! Together we should be able to find solutions to any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Some content may offe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Why are these children challenging?</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home or school iss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neglect, deprivation, abu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lack of boundaries, inconsistenci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lack of routines, lack of nurtu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other important things on their min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medical conditions like ADHD, Asperger’s Syndrome, Foetal Alcohol Effect or  Syndrome, Anxiety, OC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oredom or lack of stimul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ll behaviour has a reas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get what they want or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avoid what they don’t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All children need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feel that they bel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achieve su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learn to make responsible decisions – only responsibility teaches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To develop their natural abilities to show care and contribute to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s educators we should give opportunities to provide for these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These Kids have their own logic</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ight </a:t>
            </a:r>
            <a:r>
              <a:rPr b="0" lang="en-NZ" sz="3200" spc="-1" strike="noStrike">
                <a:solidFill>
                  <a:srgbClr val="000000"/>
                </a:solidFill>
                <a:latin typeface="Calibri"/>
              </a:rPr>
              <a:t>– hurt or be hurt - I am dangerous, I am the boss, I’ll make them suf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light</a:t>
            </a:r>
            <a:r>
              <a:rPr b="0" lang="en-NZ" sz="3200" spc="-1" strike="noStrike">
                <a:solidFill>
                  <a:srgbClr val="000000"/>
                </a:solidFill>
                <a:latin typeface="Calibri"/>
              </a:rPr>
              <a:t> – hide or be hurt - shut out people, shut out the pain, I can’t take it any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ool</a:t>
            </a:r>
            <a:r>
              <a:rPr b="0" lang="en-NZ" sz="3200" spc="-1" strike="noStrike">
                <a:solidFill>
                  <a:srgbClr val="000000"/>
                </a:solidFill>
                <a:latin typeface="Calibri"/>
              </a:rPr>
              <a:t> – outsmart them – charm and disarm, act dumb or crazy, insult and provo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ollow</a:t>
            </a:r>
            <a:r>
              <a:rPr b="0" lang="en-NZ" sz="3200" spc="-1" strike="noStrike">
                <a:solidFill>
                  <a:srgbClr val="000000"/>
                </a:solidFill>
                <a:latin typeface="Calibri"/>
              </a:rPr>
              <a:t> – band together – follow friends, a leader or the crow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What can help? </a:t>
            </a:r>
            <a:br>
              <a:rPr sz="4000"/>
            </a:br>
            <a:r>
              <a:rPr b="0" lang="en-NZ" sz="3200" spc="-1" strike="noStrike">
                <a:solidFill>
                  <a:srgbClr val="000000"/>
                </a:solidFill>
                <a:latin typeface="Calibri"/>
              </a:rPr>
              <a:t>In a classroom there are no magic remedies</a:t>
            </a:r>
            <a:br>
              <a:rPr sz="4000"/>
            </a:br>
            <a:endParaRPr b="0" lang="en-US" sz="3200" spc="-1" strike="noStrike">
              <a:solidFill>
                <a:srgbClr val="000000"/>
              </a:solidFill>
              <a:latin typeface="Calibri"/>
            </a:endParaRPr>
          </a:p>
        </p:txBody>
      </p:sp>
      <p:sp>
        <p:nvSpPr>
          <p:cNvPr id="63" name=""/>
          <p:cNvSpPr txBox="1"/>
          <p:nvPr/>
        </p:nvSpPr>
        <p:spPr>
          <a:xfrm>
            <a:off x="457200" y="1357200"/>
            <a:ext cx="8229600" cy="5214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Consistency – routines, rules, boundaries, follow through with prom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Honesty – the only way to build trust, admit mistakes, apologise if you need t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Humour – laughing about a situation can often break the ten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Flexibility – sometimes you may have to back dow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Warn of changes - Sudden/unexpected surprises can throw them – give plenty of warning of changes to rout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Calibri"/>
              </a:rPr>
              <a:t>Be shockproof – don’t get phased, appear in control, don’t panic. Kids love a “show”- don’t give them 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85840" y="213840"/>
            <a:ext cx="8229600" cy="6357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Be human – by example you can teach these kids how to behave in stressful situ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each the kid what is appropriate and no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Practice or role play scenarios and situations so the kid knows what to do to be successfu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A Contract can help change a targeted behaviou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Words are powerful – they can hurt and he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Try to connect the behaviour to the feeli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I sometimes bug, annoy and give cheek until they learn how to cop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Minimise the negatives accentuate the posi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Calibri"/>
              </a:rPr>
              <a:t>Don’t give up on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1:42:47Z</dcterms:created>
  <dc:creator>Administrator</dc:creator>
  <dc:description/>
  <dc:language>en-US</dc:language>
  <cp:lastModifiedBy>Administrator</cp:lastModifiedBy>
  <dcterms:modified xsi:type="dcterms:W3CDTF">2009-07-21T00:06:04Z</dcterms:modified>
  <cp:revision>125</cp:revision>
  <dc:subject/>
  <dc:title>Kids Stuff Up!  Get Over It! </dc:title>
</cp:coreProperties>
</file>